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14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5.wmf" ContentType="image/x-wmf"/>
  <Override PartName="/ppt/media/image2.jpeg" ContentType="image/jpeg"/>
  <Override PartName="/ppt/media/image60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3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3A75-785C-4C07-B3F8-83FBEEC0FA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A94D-B750-49C9-8634-78C3C3FDC3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8D04-2F88-44FE-824E-6550F75966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B4B8-5BB3-4E02-B2A7-7E06D57337F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6462-74BF-4170-AD3E-727448E034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0108-37CF-4D5D-85FB-B89101708F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FA28-DC87-4EB9-A954-EE44E8754A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3787-EF40-423C-B8E1-C5A8113406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78F-743C-459F-ABB6-8293A8F6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CED-7656-4AFF-889C-493272287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587-CCC1-4701-AF02-CC9FD8F1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D2F-5152-4098-B92F-26EFDB80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1AA3-A9B4-478F-9814-0EE9E3BE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8E9-62C5-464B-9C76-D7D90E887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147-B645-411A-B921-FCF43A2D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704-4E53-4972-BBDC-B2E52729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C9B3-2DC2-48DE-B5B4-2BF49AE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152-7440-44AB-8849-3BC33BF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248-9FA2-48CB-9870-03343FD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990-B624-467C-9BB8-B1CD2EF1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7D36-E532-4C1B-BEDF-3890EBF8A2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2"/>
          <p:cNvSpPr/>
          <p:nvPr/>
        </p:nvSpPr>
        <p:spPr>
          <a:xfrm>
            <a:off x="228600" y="838080"/>
            <a:ext cx="86104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681120" y="616896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ilano, luglio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0" y="17524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rebuchet MS"/>
                <a:ea typeface="Arial"/>
              </a:rPr>
              <a:t>MAKNO </a:t>
            </a:r>
            <a:r>
              <a:rPr b="1" lang="it-IT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99"/>
                </a:solidFill>
                <a:latin typeface="Trebuchet MS"/>
                <a:ea typeface="Arial"/>
              </a:rPr>
              <a:t> MINISTERO DELL’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rebuchet MS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Trebuchet MS"/>
                <a:ea typeface="Arial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UNA RICERCA SOCIALE SULL</a:t>
            </a:r>
            <a:r>
              <a:rPr b="1" lang="it-IT" sz="2400" spc="-1" strike="noStrike">
                <a:solidFill>
                  <a:srgbClr val="000099"/>
                </a:solidFill>
                <a:latin typeface="Trebuchet MS"/>
                <a:ea typeface="Arial"/>
              </a:rPr>
              <a:t>’</a:t>
            </a: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IMMI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Approfondimenti della reportis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Arial"/>
                <a:ea typeface="Arial"/>
              </a:rPr>
              <a:t>Rapporto finale sugli immig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1033560" cy="844560"/>
          </a:xfrm>
          <a:prstGeom prst="rect">
            <a:avLst/>
          </a:prstGeom>
          <a:ln w="0">
            <a:noFill/>
          </a:ln>
        </p:spPr>
      </p:pic>
      <p:pic>
        <p:nvPicPr>
          <p:cNvPr id="52" name="Immagine 9" descr="Logo Makno.jpg"/>
          <p:cNvPicPr/>
          <p:nvPr/>
        </p:nvPicPr>
        <p:blipFill>
          <a:blip r:embed="rId2"/>
          <a:stretch/>
        </p:blipFill>
        <p:spPr>
          <a:xfrm>
            <a:off x="6929280" y="142920"/>
            <a:ext cx="17751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REA GEOGRAFICA DI RESI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7720" y="10666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123-94F0-4BD6-B26C-A0C7BD17AB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77720" y="11430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D73-518E-4E89-BF76-F785A5F53F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CLASSI DI E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8A1-57BA-4293-8061-313FF71AD7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85800" y="1905120"/>
            <a:ext cx="7772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ARTE PR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PRINCIPALI CARATTERISTICHE SOCIODEMOGRA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1FF-16AB-44BC-8A1B-C8812BC62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NAZIONALI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88EA-7A1A-4FEF-A5B0-30D3E55ED4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MPIEZZA DEL COMUNE DI RESI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A9D-05DE-4B0E-96F6-A5DB597892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A QUANTO TEMPO VIVE IN 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6640" cy="56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413-20DA-49E1-ACC8-DE067F7E93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STRU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171-C662-45E9-B9D4-68B417D4D3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60948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LE LINGUE CONOSCI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05E-7CCB-4746-9477-1B5D304B79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INGUA PARLATA IN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DB1-69D1-46CD-813B-B485732A29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A495-67AC-4BF2-BD17-1217B82527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14400" y="2286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IND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" y="990720"/>
            <a:ext cx="8207280" cy="61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p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PREMESSA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METODOLOGIA E CAMPIONE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Arial"/>
              </a:rPr>
              <a:t>PARTE I: LE CONDIZIONI SOCIALI DEGLI IMMIGRATI IN ITAL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PRINCIPALI CARATTERISTICHE SOCIODEMOGRAFICHE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LE LINGUE CONOSCIUTE     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17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L LAVORO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LA CASA E LA FAMIGLIA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 BENI E I CONSUMI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L TEMPO LIBERO E L’INFORMAZIONE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                             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66"/>
                </a:solidFill>
                <a:latin typeface="Arial"/>
                <a:ea typeface="Times New Roman"/>
              </a:rPr>
              <a:t>PARTE II: GLI IMMIGRATI E LA CITTADINANZA ITALI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LA SCELTA DELL’ITALIA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                   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IMMAGINI DEGLI ITALIANI E  DEGLI IMMIGRATI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        6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66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000066"/>
                </a:solidFill>
                <a:latin typeface="Arial"/>
                <a:ea typeface="Times New Roman"/>
              </a:rPr>
              <a:t>LA QUESTIONE DELLA CITTADINANZA ITALIANA                                                  6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OSCENZA DELL’ITALI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molto + abbastanza be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026640" cy="56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D6A-9EF2-430A-8C76-3D374E92A4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LTRE LINGUE CONOSCI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oltre alla propria e all’italian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609480" y="6400800"/>
            <a:ext cx="792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DCE-1B5A-491F-8582-14ED96D48C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3A58-934C-474F-98D5-B5FB562374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CONDIZIONE PROFESSIONALE/NON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FC2-BEB9-4174-897B-CE6D92A0BD3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IPO DI CONTRATTO DI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gli immigrati che lavorano, pari al 73,5% del campi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609-0487-4BA0-9E84-D51BD580474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LE PROFESS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gli immigrati che lavorano, pari al 73,5% del campi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500-D228-427E-BC92-3472D27017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UADAGNO MEDIO MENSILE (IN €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gli immigrati che lavorano, pari al 73,5% del campi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D836-CC3B-4D5E-BF7B-9B81AE99CA4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VALORE DELLA RIMESSA MEDIA MENSILE (IN €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gli immigrati che lavorano, pari al 73,5% del campion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208-8D18-44D8-97F7-14E0B582B5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LA CASA E LA FAMIG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83D-AD46-4886-BA79-3B465434A85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IPO DI ABI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C16-7776-4AA5-B0B2-65718E62B5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880" y="3808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EM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143000"/>
            <a:ext cx="8275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Questo documento costituisce un approfondimento della ricerca sociale sulla immigrazione in Italia realizzata da Makno &amp; consulting tra il marzo e il maggio di quest’anno su incarico del Ministero dell’Inter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l documento presenta i risultati della indagine estensiva sugli immigrati (basata su 2000 interviste personali), commentandoli e 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  <a:ea typeface="Arial"/>
              </a:rPr>
              <a:t>proponendo significative chiavi di lettura dei temi chiave per le scelte politiche del Minister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Nel quadro della ricerca sociale al Ministero sono già stati consegnati i rapporti relativi 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 “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ndagine qualitativa sulla popolazione immigrata”, marzo 200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 “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ndagine qualitativa sugli italiani e l’immigrazione”, marzo 2007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 “</a:t>
            </a:r>
            <a:r>
              <a:rPr b="0" lang="it-IT" sz="1600" spc="-1" strike="noStrike">
                <a:solidFill>
                  <a:srgbClr val="3333cc"/>
                </a:solidFill>
                <a:latin typeface="Arial"/>
              </a:rPr>
              <a:t>Indagine estensiva sugli italiani e l’immigrazione”, marzo 20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FB05-0B04-4A38-8761-AC0EFF9A2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 CHI ABI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96840" y="8380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9B7-EC45-4ACD-94EE-0C33F6015AB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vive da solo)                                                                                   HA UNA FAMIGLIA NEL PAESE DI ORIG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96840" y="9144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762120" y="617220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8,2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FE2-C490-47EF-838F-C476CF50EC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ha famiglia nel Paese di origin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ENSA DI FAR VENIRE LA FAMIGLIA IN ITAL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685800" y="6248520"/>
            <a:ext cx="2438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2,3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786-78FB-49E5-AFC3-72CAD8FC18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vive con la famiglia in Italia)                                                                     N. DI COMPONENTI DELLA FAMIGLIA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457200" y="6324480"/>
            <a:ext cx="2743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43,8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817-C0DF-4FAA-B120-20494F912E2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vive con la famiglia in Italia)                                                                     N. DI FIGLI CONVIVENTI IN FAMIGLIA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33520" y="64771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43,8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4724280" y="2057400"/>
            <a:ext cx="1981440" cy="838080"/>
          </a:xfrm>
          <a:prstGeom prst="rect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Il 53% dei figli di immigrati sono nati in It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530-ADA2-4297-994C-A0E7512CD5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vive con la famiglia in Italia)                                                                     ALTRI FIGLI NON IN ITALIA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609480" y="617220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43,8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6FA-FABD-4847-BEBA-C8FE5EA0A8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 chi vive con amici, o parenti o altre persone)                                                                     NUMERO DI COABITANTI IN CASA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533520" y="6248520"/>
            <a:ext cx="2743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48,1% del campi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8DE-A2C5-49E5-A9EC-CC187ED1C6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SODDISFAZIONE PER LA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-9684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26EF-24B8-40E1-AC7C-87E25EBFFF2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MENSIONI DELL’ABITAZIONE IN M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3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772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3F21-11BD-4101-8185-E8A3FC75CD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094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N. DI VANI DELLA CASA (compresi i vani di serviz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3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91EC-3658-45BD-8AF0-082054AA899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09480" y="19810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METODOLOGIA E CAMP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BA1-B793-4123-AD68-63B9C6DDD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 BENI E I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7EB-E2B3-4686-B5C2-4EC61042E6D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LI ELETTRODOMEST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3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C86-DEE1-43C8-AA42-76F3783072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V ED 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8B7-17E4-4F56-B578-4A8FA9FB629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TELEFONIA E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1CB-9583-450F-A83E-D603081FF9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MEZZI DI TRASPOR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6592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442-0832-4D47-B5A0-93158130C5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DISPONIBILITA’ DI UN CONTO CORRENTE IN 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5587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503E-CC28-4A14-91C2-E9CD8771CC4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LUOGHI DI ACQUISTO DEI GENERI ALIMENT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305920" cy="51674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2"/>
          <p:cNvSpPr/>
          <p:nvPr/>
        </p:nvSpPr>
        <p:spPr>
          <a:xfrm>
            <a:off x="2286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Il totale è superiore al 100% perché erano possibili sino a 3 risposte. Le risposte erano spontan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AA9A-6A58-4602-A303-00C2A1D7D63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4572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LUOGHI DI ACQUISTO DEI GENERI DI ABBIGLI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2286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Il totale è superiore al 100% perché erano possibili sino a 3 risposte. Le risposte erano spontan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EEE-8E97-49FA-A6A3-A313E325D59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L TEMPO LIBERO E L’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A7C-537C-4BF2-9EE7-5001B61737A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E DI TEMPO LIBERO IN MEDIA PER SETTIM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1FE6-FABF-4FD2-BFFA-BBEBE565E2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617364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0" y="2286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METODOLOG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724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’indagine è stata condotta attraverso la somministrazione di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terviste personali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della durata di 50 minuti cir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46483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ecnica d’indagi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ampio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3720" y="22860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Il campione è di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2000 casi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; è stratificato per area geografica di residenza e macro-territori di provenienza; è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rappresentativo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della popolazione di riferimento con riguardo alla sua distribuzion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er sesso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ed età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066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Univers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10666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L’universo di riferimento dell’indagine è costituito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dagli stranieri regolarmente residenti in Italia, in età superiore ai 15 anni,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pari a circa 2 milioni al 1° gennaio 2005 (fonte Istat)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59277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l fiel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3581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tervallo di fidu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3809880"/>
            <a:ext cx="647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+/- 2,2 punti percentuali, a livello di confidenza del 95%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58672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Le interviste sono state effettuat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al 26 marzo al 23 aprile 2007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C41-5F31-4239-A8CF-A14125F35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TTIVITA’ NEL TEMPO LIB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 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1BD-55B0-488F-8442-7D01E489B35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RETI TV PIU’ SEGU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 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FF0-B165-4F8C-8F4A-1B118063CC6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REQUENZA DI ASCOLTO DEI 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665-749E-41C6-B0BB-8733AE905D4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REQUENZA DI LETTURA DEI QUOTIDIA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457200" y="6248520"/>
            <a:ext cx="8686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Fonte dei dati relativi agli italiani è un’indagine Makno realizzata nel 2006 (2000 interviste personali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6592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642-BBEC-46D6-A4C7-1A77F64E54E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762120" y="8244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’INFORMAZIONE IN TV E SULLA S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47772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A36-910C-4189-AAFB-5FB16FD175C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QUOTIDIANI: ACQUISTO VS LETTURA GRA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566-E441-4120-B922-8E7FC5D4A8C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PARTE SECO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L’IT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1EB-8856-41BC-BC54-E584B4477E3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egnaposto numero diapositiva 3"/>
          <p:cNvSpPr/>
          <p:nvPr/>
        </p:nvSpPr>
        <p:spPr>
          <a:xfrm>
            <a:off x="709596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’ STATO IN ALTRI PAESI PRIMA DI VENIRE IN ITAL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05C-620E-430F-B729-712F586D71F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E RAGIONI DELLA SCELTA DELL’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09000" y="6324480"/>
            <a:ext cx="557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C0E-9EB0-4279-93AD-83644F208D0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 ITALIA E’ STATO SEMPRE NELLO STESSO POST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-96840" y="110952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E67-E247-4302-B0DF-EC5D897CD8E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 PROVINCE CAMP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030320"/>
            <a:ext cx="830592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e interviste sono state ripartite proporzionalmente alla distribuzione degli immigrati per aree geografiche e concentrate nelle province italiane che registrano le presenze più consistenti, secondo lo schema seg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80600" y="2133720"/>
            <a:ext cx="675540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SCHEMA DI CAMPIONAMENTO SULLA POPOLAZIONE IMMIGRATA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029200"/>
            <a:ext cx="7924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Sono state realizzate 100 interviste per provincia, ad eccezione di Roma e Milano dove ne sono state effettuate 200 per ciascuna.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Le 18 province campione concentrano oltre il 50% della popolazione immigrata al 1° gennaio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447920" y="2743200"/>
          <a:ext cx="6215040" cy="221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743200"/>
                    <a:ext cx="6215040" cy="22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69DC-1ECB-45A2-A786-83178C3764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ME SI TROVA IN ITALI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-96840" y="9144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24E-AF18-4275-81BE-ADC3CC37924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INCIPALI MOTIVI PER CUI PIACE L’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85,9% del campione. 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BD8-D459-4588-9FAC-61465B2A70D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RINCIPALI MOTIVI PER CUI NON SI TROVA BENE IN 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"/>
          <p:cNvSpPr/>
          <p:nvPr/>
        </p:nvSpPr>
        <p:spPr>
          <a:xfrm>
            <a:off x="685800" y="6324480"/>
            <a:ext cx="7924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4,0% del campione. Il totale è superiore al 100% perché erano possibili più rispos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07D4-AD6F-44DB-BA81-5C4961E84CF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L PROGETTO PER IL FUT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FC-3568-4BC7-A523-BE11984EABB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IMMAGINI DEGLI ITALIANI E DEGLI IMMIGR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BE3-1213-417C-94E1-5BFA5F2ED96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685800" y="228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MMAGINE DEGLI ITALIANI PRESSO GLI IMMIG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ccordo vs. disaccordo con ciascuna fr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22840" y="6351480"/>
            <a:ext cx="62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(accordo = del tutto + abbastanza; disaccordo = del tutto + abbastanz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147-74B0-4B4A-BA69-CFF6359018F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762120" y="228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MMAGINE DEGLI IMMIGRATI PRESSO GLI IMMIG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accordo vs. disaccordo con ciascuna fr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122840" y="6351480"/>
            <a:ext cx="62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(accordo = del tutto + abbastanza; disaccordo = del tutto + abbastanz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E35-0493-4993-8E37-C97E65D0426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2880" y="1523880"/>
            <a:ext cx="4038480" cy="23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ITALIANI: ASPETTI POSITIVI</a:t>
            </a:r>
            <a:r>
              <a:rPr b="0" lang="en-US" sz="16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1523880"/>
            <a:ext cx="4038480" cy="233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Arial"/>
              </a:rPr>
              <a:t>IMMIGRATI: ASPETTI POSI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3886200"/>
            <a:ext cx="4038480" cy="23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ITALIANI: ASPETTI NEG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3886200"/>
            <a:ext cx="4038480" cy="23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3300"/>
                </a:solidFill>
                <a:uFillTx/>
                <a:latin typeface="Arial"/>
              </a:rPr>
              <a:t>IMMIGRATI: ASPETTI NEG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7760" y="6324480"/>
            <a:ext cx="59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Arial"/>
              </a:rPr>
              <a:t>Nota</a:t>
            </a: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:sono riportate solo le frasi in tema di rapporti tra italiani e immigrat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38102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IN GENERALE SONO BRAVA G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SE CAPISCONO CHE SEI SINCERO, TI AIUT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RISPETTOSI DEGLI IMMIGR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NON RAZZI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1640" y="4299120"/>
            <a:ext cx="3641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NON CAPISCONO MIA CULTURA E TRADI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TENGONO A DISTANZA GLI IMMIGR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SPESSO ACCUSANO GLI IMMIGRATI DI COLPE NON L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1905120"/>
            <a:ext cx="373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SI IMPEGNANO A IMPARARE L’ITALI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4114800"/>
            <a:ext cx="37339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ERTI NON HANNO VOGLIA DI LAVORARE E NON MERITANO DI STARE IN ITA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OLTI NON CAPISCONO CHE BISOGNA CONOSCERE E RISPETTARE LE LEGGI ITALI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MOLTI SONO COSTRETTI A ESSERE DISONESTI PER POTER MANGI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762120" y="2286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MMIGRATI E ITALIANI A CONFRONTO                                        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nella percezione degli immigra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BDB2-3ED6-4423-84C3-B694BC012BD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609480" y="182880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LA QUESTIONE DELLA CITTADINANZA ITAL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68F-DD38-49D5-82D4-619EB2A3F73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611280" y="152280"/>
            <a:ext cx="8304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ACCORDO/DISACCORDO CON LA FRASE “ALLA GRANDE MAGGIORANZA DEGLI IMMIGRATI PIACEREBBE POTER OTTENERE LA CITTADINANZA ITALIAN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425160" cy="5862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FAB-D381-4CE0-9571-56D7FFFF9C6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2280" y="228600"/>
            <a:ext cx="899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E 18 PROVINCE CAMPIONE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388200" cy="506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6C0-F854-487F-8C08-2095C2BA7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04920" y="152280"/>
            <a:ext cx="8610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CCORDO/DISACCORDO CON LA FRASE “AI MIEI CONNAZIONALI NON INTERESSA POTER OTTENERE LA CITTADINANZA ITALIANA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394-3372-44CD-9BCC-5826898F75B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OSCENZA DEL NUMERO DI ANNI NECESSARI PER CHIEDERE LA CITTADINANZA CON LA LEGGE ATTU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2"/>
          <p:cNvSpPr/>
          <p:nvPr/>
        </p:nvSpPr>
        <p:spPr>
          <a:xfrm>
            <a:off x="609480" y="6095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99"/>
                </a:solidFill>
                <a:latin typeface="Arial"/>
                <a:ea typeface="Arial"/>
              </a:rPr>
              <a:t>La fonte dei dati sugli italiani è “L’indagine estensiva sugli italiani e l’immigrazione” di Makno &amp; consulting per il Ministero dell’Interno, marzo 2007 (1000 interviste telefonich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D93-8160-49CE-992D-1476F4A390B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TERESSE POTENZIALE A CHIEDERE LA CITTADINANZA ITALIANA DOPO 10 ANNI DI REGOLARE RESI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96840" y="8380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F610-2C5D-4877-BAAD-7B0E30E96B2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TERESSATI POTENZIALI A CHIEDERE LA CITTADINANZA ITALIANA DOPO 10 ANNI DI RESIDENZA, PER CONTI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17360" y="990720"/>
            <a:ext cx="9026640" cy="56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752-E48D-416F-B062-86B10E8C15C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OTIVI PER CUI INTERESSA LA CITTADINANZA ITAL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2"/>
          <p:cNvSpPr/>
          <p:nvPr/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55,2% del campione. Erano possibili max. 3 risposte sponta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965C-7905-4E42-82E4-5D39D066427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3352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OTIVI PER CUI NON INTERESSA LA CITTADINANZA ITALI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66280" cy="53910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Arial"/>
              </a:rPr>
              <a:t>Base: 20,3% del campione. Erano possibili max. 3 risposte spontan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1FA-860F-477B-A061-9BB525D6562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OSCENZA DELLA PROPOSTA DEL DISEGNO DI LEGGE IN TEMA DI CONCESSIONE DELLA CITTADIN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-96840" y="9144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BF79-036F-4478-95A1-C5C8F88C769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971640" y="152280"/>
            <a:ext cx="7129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NFORMATI SULLA PROPOSTA DEL DL, PER CONTINENTI (bene informato + abbastanza bene informa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9026640" cy="561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21E-3CBE-4362-848F-E6B858F6C2D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VALUTAZIONE DEI CRITERI BASE DEL DISEGNO DI LEGGE IN TEMA DI CONCESSIONE DELLA CITTADINA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0A4B-4CC2-4279-AC41-3241977996E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152280"/>
            <a:ext cx="8534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SIDERANO GIUSTI I CRITERI BASE DEL DL, PER CONTI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6592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C45-E648-43D5-B459-0899B83633D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2280" y="2286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ARATTERISTICHE DEL CAMP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030320"/>
            <a:ext cx="815328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Il campione rispecchia le quote teoriche assegnate sulla base delle risultanze anagrafiche ISTAT al 1° gennaio 2005 con riguardo all’area geografica di residenza, al sesso e alle classi di età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La distribuzione teorica delle interviste per macro-territori di provenienza (Europa Centro Orientale, Africa, Asia e America Latina) è stata parzialmente modificata in sede di campionamento rispetto alle percentuali teoriche, diminuendo la quota delle interviste degli Europei Centro Orientali a vantaggio degli immigrati originari dell’Africa e dell’Asia. Il campione finale rispecchia le quote operative assegnate, che erano precisam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uropa Centro Orientale: 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frica: 3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sia: 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601"/>
              </a:spcAft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merica Latina: 1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8521-70A8-425A-BF5C-CA17EDF708F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RIENTAMENTO NEI CONFRONTI DI QUANTO PREVISTO DALLA PROPOSTA DI DL 04/08/2006 PER I BAMB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240840" cy="574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E53F-B268-4A0F-9D8F-C03ED3B22CF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AVOREVOLI NEI CONFRONTI DI QUANTO PREVISTO PER I BAMBINI, PER CONTI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665920" cy="53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D5D-C388-4662-AB3F-D40228F2B00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IETTIVO CHE DOVREBBE PORSI IL GOVERNO ITALIANO NEI CONFRONTI DEGLI IMMIGR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240840" cy="574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E5B-EB01-48BA-A319-95FCB9056D5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OBIETTIVO CHE DOVREBBE PORSI IL GOVERNO ITALIANO NEI CONFRONTI DEGLI IMMIGRATI, PER CONTIN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65920" cy="539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FF2-F155-4C0F-897F-F4D2BE9044B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NTINENTE DI ORI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66280" cy="539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A85A-62EC-4A7D-BC85-7320E817C2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5:17:06Z</dcterms:created>
  <dc:creator>Linda</dc:creator>
  <dc:description/>
  <dc:language>en-US</dc:language>
  <cp:lastModifiedBy>Makno</cp:lastModifiedBy>
  <dcterms:modified xsi:type="dcterms:W3CDTF">2007-07-04T08:53:29Z</dcterms:modified>
  <cp:revision>144</cp:revision>
  <dc:subject/>
  <dc:title>Rapporto sociale immigrati</dc:title>
</cp:coreProperties>
</file>